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762-0962-4968-8FC0-CCB50B70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40B-81F7-433C-9636-829FF251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31A-F736-49F4-95ED-41383301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A04-11DC-4468-8617-A8C0268F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14D7-6097-426B-AB4E-545BFFA5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E713-D61D-4F7B-BF09-DDEC455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EEC7-63B8-40D9-8CC9-1AFDE037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0660-BE04-4BB6-AAC3-43D12A8B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F975-01B3-40E3-A856-625BAF8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906D-F62C-4BEB-B8FA-164A569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CBE7-FB9F-4776-A0C3-397F7FD7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40B-45BF-41ED-AA67-396D0BF5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8A20-7699-4162-A182-CFF5DAE3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6631-087D-4A3E-B035-87D6614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FDFB-953B-45AD-996E-0FD9F9B6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4E4F-FE6B-43DB-BAD1-37A11355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58BC-8A8A-4517-A76B-0B050303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FC2-EBBF-4A46-B46D-1D326DE7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8E4-74D7-4D92-9172-44F56B53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057-6DB7-4AB0-8729-A8C2877D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B33-FBB8-4D58-B834-8A5BEAE1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438-766B-49FF-959C-3F3E305E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177-7CB8-410A-8AB3-9609C63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761-8089-4A84-A0EF-B2D578E6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2C4E-535E-408B-B637-45DB4A25FB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32D4-67AB-40A6-A5C7-44E76AE012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xtraordinary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y 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ing good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inue 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Gothic impression of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-8/2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ording to a newspaper in Franklin county ohio dog names used a lot in that county include Lady, Bear Maggie and Brandy the dogs name used the most is Ma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utherford B. Hayes the nineteenth president of the United States was born in Delaware Ohio in 1822 and following a quiet dramatic election became president in 1877 at age of 5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nesia:Remember::___________:sle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rnful:Grief:: ____________:fur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 French Fry Sh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sh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 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elements of Gothic fi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 about yesterda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nstances of foreshadowing can you find in this tale? Start with the tit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unusual about the history of the Usher fami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e’s narrators are often deranged murderers or crazy men…like Roderick Usher. Why do you think he chose to have a nameless, sane narrator tell this tale, rather than Usher himself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roblem does Roderick begin to discuss with the narrato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s to think about as we read today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kind of illness does Roderick suffer from?  What are his symptoms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kind of illness does his sister Madeline Usher have?  What are her symptoms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are the qualities of Roderick's paintings?  What example does the narrator describe?  What do you think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t means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Roderick's song "The Haunted Palace" the narrator says he first perceived Roderick's awareness of "th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ottering of his lofty reason upon her throne."  What does the narrator mean?  What story does the song tell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is the meaning of this story and what does it suggest about Roderick's mental state?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-Essay ques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swer the following question in at least two paragrap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what ways does the state of the house reflect the mental state of the people that live in it? Use specific examples from the stor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8:47:03Z</dcterms:created>
  <dc:creator>VMS</dc:creator>
  <dc:description/>
  <dc:language>en-US</dc:language>
  <cp:lastModifiedBy>VMS</cp:lastModifiedBy>
  <dcterms:modified xsi:type="dcterms:W3CDTF">2009-08-26T18:25:57Z</dcterms:modified>
  <cp:revision>3</cp:revision>
  <dc:subject/>
  <dc:title>Extraordinary English</dc:title>
</cp:coreProperties>
</file>